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28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BE3-6FC4-4623-B576-75643ACB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8E6-3C6C-4ED0-947B-A8866F3C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2CF-531C-4B63-8643-D63FC616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70F-76BA-49DD-B3D6-D72CE6AA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9BBA-B574-4E99-9B7F-20A0E4EA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9085-6181-4696-B223-4EFB15F9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0C04-F657-45F6-A68D-094EF24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56CD-418F-4BDE-98B2-2E03339D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13C1-77A8-4FDC-A0F0-80D1079E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ACBE-A0DF-47DA-B22B-C6704D45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0D10-D7C0-4100-8562-5E7043DE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CBF-D282-4755-80FF-564A823A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A680-B0C0-411D-AD4D-487FF60F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9579-3303-4A05-B67F-C4C9F38B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B430-AA45-4107-B582-55CFCC2B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9AEF-64DD-43AD-9059-F98E0BC8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FACF-6E54-424B-8191-0C7D0F2C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2B1-7DA6-40C5-8C15-5D1BF939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CBD-4F12-4996-B826-FE8313E2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C2D-A322-40EC-931D-67C491E5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9CA-E715-4B2B-836C-98F9ED5B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836-80C7-4083-ABC1-4A76466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50A-58D9-415A-8464-FC33836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317-765F-4FEB-A0B5-5B7ECBE9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77D9-6B72-414F-B15A-AE4D8F73E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7D43-E39D-456B-BBD6-F9C709A18F1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ct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ct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ct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ct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Distributive 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8300"/>
            </a:b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 Property</a:t>
            </a:r>
            <a:endParaRPr b="0" lang="en-US" sz="8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752480" y="457200"/>
          <a:ext cx="533412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7200"/>
                    <a:ext cx="533412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600200" y="3886200"/>
          <a:ext cx="5527800" cy="21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86200"/>
                    <a:ext cx="552780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0492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828800" y="4343400"/>
          <a:ext cx="536904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343400"/>
                    <a:ext cx="53690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828800" y="838080"/>
          <a:ext cx="4390920" cy="12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8080"/>
                    <a:ext cx="439092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4920" y="1219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590920" y="4572000"/>
          <a:ext cx="423072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572000"/>
                    <a:ext cx="423072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362320" y="838080"/>
          <a:ext cx="4471920" cy="12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838080"/>
                    <a:ext cx="44719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088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981080" y="4343400"/>
          <a:ext cx="496116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343400"/>
                    <a:ext cx="496116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295280" y="914400"/>
          <a:ext cx="561024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914400"/>
                    <a:ext cx="561024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057400" y="4572000"/>
          <a:ext cx="390384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572000"/>
                    <a:ext cx="390384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209680" y="533520"/>
          <a:ext cx="430848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33520"/>
                    <a:ext cx="43084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762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523880" y="4648320"/>
          <a:ext cx="439128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648320"/>
                    <a:ext cx="43912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676520" y="457200"/>
          <a:ext cx="4473360" cy="12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7200"/>
                    <a:ext cx="447336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685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447920" y="4495680"/>
          <a:ext cx="4962240" cy="12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95680"/>
                    <a:ext cx="496224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752480" y="914400"/>
          <a:ext cx="431028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914400"/>
                    <a:ext cx="43102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57200" y="4648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990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23880" y="1066680"/>
          <a:ext cx="34149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34149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828800" y="4572000"/>
          <a:ext cx="439272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43927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0880" y="76212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64832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452600" y="1112760"/>
          <a:ext cx="44719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112760"/>
                    <a:ext cx="4471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163520" y="4537080"/>
          <a:ext cx="439272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3520" y="4537080"/>
                    <a:ext cx="439272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533520" y="1143000"/>
            <a:ext cx="5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64832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286000" y="838080"/>
          <a:ext cx="38228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838080"/>
                    <a:ext cx="3822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905120" y="4191120"/>
          <a:ext cx="504324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191120"/>
                    <a:ext cx="50432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0492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828800" y="609480"/>
          <a:ext cx="6424560" cy="13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642456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95280" y="4648320"/>
          <a:ext cx="699300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648320"/>
                    <a:ext cx="69930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57200" y="464832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0948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14400" y="609480"/>
          <a:ext cx="797076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09480"/>
                    <a:ext cx="797076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905120" y="4419720"/>
          <a:ext cx="390348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419720"/>
                    <a:ext cx="39034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838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752480" y="609480"/>
          <a:ext cx="51246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09480"/>
                    <a:ext cx="51246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600200" y="4495680"/>
          <a:ext cx="447372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495680"/>
                    <a:ext cx="447372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609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143000" y="685800"/>
          <a:ext cx="617220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617220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981080" y="4191120"/>
          <a:ext cx="4876920" cy="16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191120"/>
                    <a:ext cx="487692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1066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371600" y="838080"/>
          <a:ext cx="43909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838080"/>
                    <a:ext cx="4390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447920" y="3809880"/>
          <a:ext cx="4473360" cy="251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809880"/>
                    <a:ext cx="447336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2860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13:41Z</dcterms:created>
  <dc:creator>PA Department of Education</dc:creator>
  <dc:description/>
  <dc:language>en-US</dc:language>
  <cp:lastModifiedBy>Parkland High School</cp:lastModifiedBy>
  <dcterms:modified xsi:type="dcterms:W3CDTF">2010-10-04T17:12:44Z</dcterms:modified>
  <cp:revision>50</cp:revision>
  <dc:subject/>
  <dc:title>Language of Algebra </dc:title>
</cp:coreProperties>
</file>